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A124-BE94-4AA6-898F-1C199D6CE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8C3D-4DC7-413F-B06B-065AB3B52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F210-0582-454F-86E9-09B8E1814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0B38-04BD-40D6-AC7B-331957239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D31B-A1CD-4D3C-AE50-90A5B16A6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6D8D-4B03-4AAA-86F2-D2958F54D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D0DD-49F7-430F-97C9-FB0A3ECB6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CF17-3844-4AC3-A3BB-DAC89F836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6207-2CD5-484A-BA87-05B9A8DDA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67D8-5C7C-499C-B1BC-721C9540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D552-410B-47A8-A957-0425BCBD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FD6D-4026-4F1E-B79F-B0F0CC78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4157C-10F8-4F54-B557-A59F780659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Dylan sail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Greek City-St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DS Polis.bmp"/>
          <p:cNvPicPr/>
          <p:nvPr/>
        </p:nvPicPr>
        <p:blipFill>
          <a:blip r:embed="rId1"/>
          <a:stretch/>
        </p:blipFill>
        <p:spPr>
          <a:xfrm>
            <a:off x="0" y="2255760"/>
            <a:ext cx="914400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iloso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tudy of wisdom and the right way to l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3" descr="phil DS.bmp"/>
          <p:cNvPicPr/>
          <p:nvPr/>
        </p:nvPicPr>
        <p:blipFill>
          <a:blip r:embed="rId1"/>
          <a:stretch/>
        </p:blipFill>
        <p:spPr>
          <a:xfrm>
            <a:off x="228600" y="2743200"/>
            <a:ext cx="8674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ninsu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area of land nearly surrounded by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peninsula DS.bmp"/>
          <p:cNvPicPr/>
          <p:nvPr/>
        </p:nvPicPr>
        <p:blipFill>
          <a:blip r:embed="rId1"/>
          <a:stretch/>
        </p:blipFill>
        <p:spPr>
          <a:xfrm>
            <a:off x="0" y="2244600"/>
            <a:ext cx="9144000" cy="46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loponnesian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ar between Athens and Spar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greese war DS.bmp"/>
          <p:cNvPicPr/>
          <p:nvPr/>
        </p:nvPicPr>
        <p:blipFill>
          <a:blip r:embed="rId1"/>
          <a:stretch/>
        </p:blipFill>
        <p:spPr>
          <a:xfrm>
            <a:off x="0" y="2308320"/>
            <a:ext cx="914400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ig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kind of government that is run by a small group of peo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3" descr="orchDS.bmp"/>
          <p:cNvPicPr/>
          <p:nvPr/>
        </p:nvPicPr>
        <p:blipFill>
          <a:blip r:embed="rId1"/>
          <a:stretch/>
        </p:blipFill>
        <p:spPr>
          <a:xfrm>
            <a:off x="3886200" y="2397240"/>
            <a:ext cx="335268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b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sheltered place along a coast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3" descr="DS harbor.bmp"/>
          <p:cNvPicPr/>
          <p:nvPr/>
        </p:nvPicPr>
        <p:blipFill>
          <a:blip r:embed="rId1"/>
          <a:stretch/>
        </p:blipFill>
        <p:spPr>
          <a:xfrm>
            <a:off x="0" y="2478240"/>
            <a:ext cx="9144000" cy="43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Greese Acropolis DS.jpg"/>
          <p:cNvPicPr/>
          <p:nvPr/>
        </p:nvPicPr>
        <p:blipFill>
          <a:blip r:embed="rId1"/>
          <a:stretch/>
        </p:blipFill>
        <p:spPr>
          <a:xfrm>
            <a:off x="0" y="2079720"/>
            <a:ext cx="91440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lace where Greeks meet and conduct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Content Placeholder 5" descr="agora + greese DS.jpg"/>
          <p:cNvPicPr/>
          <p:nvPr/>
        </p:nvPicPr>
        <p:blipFill>
          <a:blip r:embed="rId1"/>
          <a:stretch/>
        </p:blipFill>
        <p:spPr>
          <a:xfrm>
            <a:off x="0" y="1835280"/>
            <a:ext cx="914400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mb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awmaking place where people voted on issues that helped there c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assembly DS.bmp"/>
          <p:cNvPicPr/>
          <p:nvPr/>
        </p:nvPicPr>
        <p:blipFill>
          <a:blip r:embed="rId1"/>
          <a:stretch/>
        </p:blipFill>
        <p:spPr>
          <a:xfrm>
            <a:off x="0" y="2693880"/>
            <a:ext cx="9144000" cy="41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iz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erson who has certain rights and responsibilities too his or her coun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AutoShape 2"/>
          <p:cNvSpPr/>
          <p:nvPr/>
        </p:nvSpPr>
        <p:spPr>
          <a:xfrm>
            <a:off x="63360" y="-939960"/>
            <a:ext cx="2372040" cy="19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"/>
          <p:cNvSpPr/>
          <p:nvPr/>
        </p:nvSpPr>
        <p:spPr>
          <a:xfrm>
            <a:off x="63360" y="-939960"/>
            <a:ext cx="2372040" cy="19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citizen DS.bmp"/>
          <p:cNvPicPr/>
          <p:nvPr/>
        </p:nvPicPr>
        <p:blipFill>
          <a:blip r:embed="rId1"/>
          <a:stretch/>
        </p:blipFill>
        <p:spPr>
          <a:xfrm>
            <a:off x="0" y="2660760"/>
            <a:ext cx="8381880" cy="41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group of people who lived apart from Greece but kept economic ties to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colony DS.bmp"/>
          <p:cNvPicPr/>
          <p:nvPr/>
        </p:nvPicPr>
        <p:blipFill>
          <a:blip r:embed="rId1"/>
          <a:srcRect l="0" t="0" r="0" b="8089"/>
          <a:stretch/>
        </p:blipFill>
        <p:spPr>
          <a:xfrm>
            <a:off x="0" y="2540160"/>
            <a:ext cx="914400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oc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orm of government where people vote to make deci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democracy DS.bmp"/>
          <p:cNvPicPr/>
          <p:nvPr/>
        </p:nvPicPr>
        <p:blipFill>
          <a:blip r:embed="rId1"/>
          <a:stretch/>
        </p:blipFill>
        <p:spPr>
          <a:xfrm>
            <a:off x="0" y="3363840"/>
            <a:ext cx="8534520" cy="34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hear evidence and make decisions in a court of la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jury DS.bmp"/>
          <p:cNvPicPr/>
          <p:nvPr/>
        </p:nvPicPr>
        <p:blipFill>
          <a:blip r:embed="rId1"/>
          <a:stretch/>
        </p:blipFill>
        <p:spPr>
          <a:xfrm>
            <a:off x="0" y="2647800"/>
            <a:ext cx="9144000" cy="42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6840" y="159984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vernment headed by one ru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amonarchy DS.bmp"/>
          <p:cNvPicPr/>
          <p:nvPr/>
        </p:nvPicPr>
        <p:blipFill>
          <a:blip r:embed="rId1"/>
          <a:stretch/>
        </p:blipFill>
        <p:spPr>
          <a:xfrm>
            <a:off x="2666880" y="2743200"/>
            <a:ext cx="3886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BHISD</cp:lastModifiedBy>
  <dcterms:modified xsi:type="dcterms:W3CDTF">2012-03-02T15:59:18Z</dcterms:modified>
  <cp:revision>95</cp:revision>
  <dc:subject/>
  <dc:title>Ancient Greece</dc:title>
</cp:coreProperties>
</file>